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08D9-4A6C-46F9-87BE-8FF9B026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6731-98A9-4AA4-B361-2B129A00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2982-9917-427A-AF01-FFB5A529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1800-D87B-4859-A508-E05EA01B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92D5-6641-4F75-8C82-B378B4C2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27E1-19F9-4DA9-BCAD-E5DC9477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019C-37FD-45FF-A17A-71EF3B71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5261-6222-4F84-88AD-745B9939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5F52-2BA2-4CF9-AFBA-F83C61BE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769D-D917-4930-BA2B-0AE68F1A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ABC4-0B0C-4396-9DF9-9899C532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550A-2632-4716-ADC6-92226871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A991-720E-428E-881C-8F85A6463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-11160"/>
          <a:ext cx="9117000" cy="6767640"/>
        </p:xfrm>
        <a:graphic>
          <a:graphicData uri="http://schemas.openxmlformats.org/drawingml/2006/table">
            <a:tbl>
              <a:tblPr/>
              <a:tblGrid>
                <a:gridCol w="1219320"/>
                <a:gridCol w="1523880"/>
                <a:gridCol w="1693800"/>
                <a:gridCol w="1855800"/>
                <a:gridCol w="1595520"/>
                <a:gridCol w="1228680"/>
              </a:tblGrid>
              <a:tr h="17784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ragraph requir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2 paragrap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3 paragrap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all 4 paragrap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mmar accura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y errors make meaning completely unclear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uent significantly hinder meaning in some instances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ly understandable, with errors that may impede comprehensibilit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ly correct mistakes do not impede comprehensi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s control of grammar with only minor mistakes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 did less than what was requir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udent included the  information but did not elabo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udent includes all requirements and adds to the presentation with extra inform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udent uses literary de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ON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tion and fl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riter demonstrates average to below average writing techniques – no opening paragraph or choppy flow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riter demonstrates good writing techniques with a good opening paragraph, which flows into subsequent paragraphs 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ehensi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ain idea is unclear due to irrelevant details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er clearly conveys the main idea, providing details and fulfilling all of the requiremen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 of Express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’s level of expression is consistent with a mid - novice level speake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’s level of expression is consistent with a high novice level speake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takes risks to manipulate the language and elaborate at an intermediate low level of proficien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cabula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adequate and inaccurate use of vocabula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inaccurate use of vocabulary and/or too basic for the level.   No or little vocabulary from our list was used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 appropriate use of vocabulary with little or no variety. Used some vocabulary from our fairy tale unit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 appropriate and varied use of vocabulary . Consistently used vocabulary from our fairy tale unit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ntions/ sentence struc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y simple sentences or fragment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ses strings of simple sentences and phras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ses strings of mostly simple sentences, with a few compound or complex sente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velops mostly paragraph-length discourse with simple, compound (and, but and or) and complex (pusher) sentenc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TextBox 1"/>
          <p:cNvSpPr/>
          <p:nvPr/>
        </p:nvSpPr>
        <p:spPr>
          <a:xfrm>
            <a:off x="5257800" y="2462040"/>
            <a:ext cx="33526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ame:  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_______/2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20:35:31Z</dcterms:created>
  <dc:creator>Alissa Hart</dc:creator>
  <dc:description/>
  <dc:language>en-US</dc:language>
  <cp:lastModifiedBy>Alissa Hart</cp:lastModifiedBy>
  <dcterms:modified xsi:type="dcterms:W3CDTF">2015-04-17T12:51:03Z</dcterms:modified>
  <cp:revision>5</cp:revision>
  <dc:subject/>
  <dc:title>PowerPoint Presentation</dc:title>
</cp:coreProperties>
</file>